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983-9390-4DCC-8DEC-D186F222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F7A-25B1-4A21-97D3-9414448F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975-1759-48B7-8E93-6C1A22A1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6E4-EC71-4538-BEAE-F4662B68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FC6A-F0FA-4860-89C6-D4E68E98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C910-C106-4646-AC13-C8AA36D3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3CDB-2139-4B93-82F7-FB24B988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8E4D-99B5-40AC-A344-884A1507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BBE4-FA47-4ECC-800A-0102B963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4DAB-D64A-4637-9081-1A37D3A3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2609-EFA1-42BD-A99D-960565F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917-6852-440F-B0D5-E5ED0E40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89F7-FD21-4BA3-936F-5EB4EFB0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16F3-2487-42EE-A4C4-C8320E00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6B2F-097A-4A76-B1B3-65B0C9B0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60AB-C632-45E3-8509-7C01547D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90FF-B8E5-4131-AEDC-457A28C5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C34-1A2B-45C5-AC20-9788F1DF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A78-0D76-4D24-AEFA-B7724C62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D7E-942B-4377-B2FD-8C0A5A67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A20-8B1B-404A-A15D-A9F0E1A8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BAD-3B42-472E-81A8-FEA44DA9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5F7-CD42-4439-B569-86C4C0DD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8103-9AA5-441A-9FF8-C22D3E49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CE5D-80C5-4DA8-A418-69FCEFB28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0569-2580-4B81-8270-AB3498006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king Action to save wate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By: Vivian Pa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03640" y="710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510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ow The Government Is Helpin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ing action on climate change- Global w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ing advertisements to encourage people to save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ycling wa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ing healthy 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ng water suppl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water wisely as it is very sca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262560" y="4862520"/>
            <a:ext cx="2881440" cy="1995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21964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5510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</a:t>
            </a: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You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n save wat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can save water by Taking short show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can save water by turning the tap off when you brush your tee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can save water by using the dish washer less of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can save water by getting a dual flush toi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You can save water by finding out if you have a leek in your house, and fix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5219640" y="4437000"/>
            <a:ext cx="1419120" cy="1594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716360" y="702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949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f you help save rivers our water will look like this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4036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5510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nd this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427640" y="6958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510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If we don’t help our rivers, our water will look like this..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851280" y="724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909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And This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132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909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ae8"/>
                </a:solidFill>
                <a:latin typeface="Arial"/>
              </a:rPr>
              <a:t>Help the government cleanse the rivers and Thank You for watching!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356000" y="7174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5510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00:39:31Z</dcterms:created>
  <dc:creator>Primary School</dc:creator>
  <dc:description/>
  <cp:keywords/>
  <dc:language>en-US</dc:language>
  <cp:lastModifiedBy>Primary School</cp:lastModifiedBy>
  <dcterms:modified xsi:type="dcterms:W3CDTF">2009-06-30T23:54:57Z</dcterms:modified>
  <cp:revision>7</cp:revision>
  <dc:subject/>
  <dc:title>Taking Action to save wat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901033</vt:lpwstr>
  </property>
</Properties>
</file>